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0E54-329A-4E36-B317-8F7208CD019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Работу выполни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Ученик 7 клас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Демьянов Дени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7603-DF33-4547-8D15-85C64516803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СОННАЯ БОЛЕЗНЬ</a:t>
            </a: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 - заболева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вызываемое трипаносомами, т.е. простейш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рода </a:t>
            </a: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Trypanosoma</a:t>
            </a: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. Её иногда назыв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африканским трипаносомоз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8EE1-E599-4C62-817E-4EED4AE1878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Сонная болезнь</a:t>
            </a: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 передается через уку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инфицированных мух </a:t>
            </a: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Цеце,</a:t>
            </a: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 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Распространена в 36 странах Афр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южнее пустыни Саха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A760-DC85-474A-B9CC-EDF4F85D5AC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Риску заболевания подвергается д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50 млн.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Ежегодно фиксируется пример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25 тыс.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новых случаев сонной боле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035C-C553-4F8D-AEB4-34AF0FB90DC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два вида боле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5EA6-95D4-4305-9ACF-F3173B6D075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Клинические проявления обеих форм сон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болезни сходны, но родезийский вариант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большинстве случаев протекает острее и б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лечения может закончиться смертью б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через несколько месяцев или даже нед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Гамбийская форма прогрессирует медленно, и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нелеченых случаях болезнь мож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продолжаться несколько лет, прежде ч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наступает летальный ис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369C-4D83-401C-9A7E-B8FFE36CD63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ервые симптомы, как правило, возникают через 1–3 недели после укуса мухи цец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E804-F923-4D92-BFD1-64A8B5373D2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Главными клиническ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проявлениями становя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сильная головная бол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лихорадка, общая слаб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и апатия, чрезмер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сонливость, двигат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расстройства и кома.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1C57-1ACF-4356-9FAD-565D4710023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В настоящее время для лечения сонной болезни активно используются два лекарства, но они имеют нежелательные побочные эффе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05EF-AF99-4189-8230-A67D814F6E9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CBE4-20FD-46D1-A058-11BF6D1CE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9E1F-D7DD-4AEF-96D7-49B52874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D9BA-E5CE-42D0-9E09-11EFF8D6B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C187-F560-40D8-B06C-6D02F1601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C948-98AE-4B93-8358-8645BCD27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4D716-EE2B-48AC-AFF1-FB008446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AC38-F106-4B0F-9EAE-F3EA6D9D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7A31-A840-4FF2-9884-98D5CE9D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8D53-78C0-4B0A-AF91-76B9314E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092D-E7FC-470B-A38B-045B6DA2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39F4-C090-43E2-ADDD-2EAC50C5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A50D-736F-4768-8E77-D26A649C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8AEB-D5DE-4EA4-A493-37617F14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0D5B-46D8-485B-9DF6-2E8D3726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334A-20FB-4F35-AE38-15AEC088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EAF94-D2E8-4D51-A3AB-DA7AF5268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52B66-BD87-4F43-8BD3-17C8E12D1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B855-ECB3-4136-9685-2BE74B81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68EF-199D-4EAB-8DAE-B1A82142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534C-32E3-47BB-99C0-6311A5E5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B0F0-5F0C-4086-A6D9-109D5775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DFFA-2379-48C9-B49E-2D64259D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DA1B-B579-4D9F-8916-E81A8D91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C424-E72D-4D41-80C0-EDA9118D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2E4C-83C5-40D1-856B-46117FE184C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478D-AB98-45DE-AC94-BB9F82E5221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6629040" y="5790960"/>
            <a:ext cx="2514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Работу выполнил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Ученик 7 класс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Демьянов Дени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WordArt 4"/>
          <p:cNvSpPr txBox="1"/>
          <p:nvPr/>
        </p:nvSpPr>
        <p:spPr>
          <a:xfrm>
            <a:off x="990720" y="2209680"/>
            <a:ext cx="7238880" cy="173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нная болезнь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6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WordArt 4"/>
          <p:cNvSpPr txBox="1"/>
          <p:nvPr/>
        </p:nvSpPr>
        <p:spPr>
          <a:xfrm>
            <a:off x="152280" y="1447920"/>
            <a:ext cx="8763120" cy="22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5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304920" y="1752120"/>
            <a:ext cx="854064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imes New Roman"/>
              </a:rPr>
              <a:t>СОННАЯ БОЛЕЗНЬ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- заболевани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вызываемое трипаносомами, т.е. простейши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рода </a:t>
            </a:r>
            <a:r>
              <a:rPr b="0" i="1" lang="ru-RU" sz="2800" spc="-1" strike="noStrike">
                <a:solidFill>
                  <a:srgbClr val="ffffcc"/>
                </a:solidFill>
                <a:latin typeface="Times New Roman"/>
              </a:rPr>
              <a:t>Trypanosoma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. Её иногда называю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африканским трипаносомоз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WordArt 4"/>
          <p:cNvSpPr txBox="1"/>
          <p:nvPr/>
        </p:nvSpPr>
        <p:spPr>
          <a:xfrm>
            <a:off x="2666880" y="228600"/>
            <a:ext cx="342900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то это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96" name="Picture 5" descr="Trypanosoma_gambiense"/>
          <p:cNvPicPr/>
          <p:nvPr/>
        </p:nvPicPr>
        <p:blipFill>
          <a:blip r:embed="rId3"/>
          <a:stretch/>
        </p:blipFill>
        <p:spPr>
          <a:xfrm>
            <a:off x="609480" y="3886200"/>
            <a:ext cx="3429000" cy="2743200"/>
          </a:xfrm>
          <a:prstGeom prst="rect">
            <a:avLst/>
          </a:prstGeom>
          <a:ln w="0">
            <a:noFill/>
          </a:ln>
        </p:spPr>
      </p:pic>
      <p:sp>
        <p:nvSpPr>
          <p:cNvPr id="397" name="Line 6"/>
          <p:cNvSpPr/>
          <p:nvPr/>
        </p:nvSpPr>
        <p:spPr>
          <a:xfrm flipV="1">
            <a:off x="3124080" y="4495680"/>
            <a:ext cx="2590920" cy="60984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8" name="Picture 9" descr="b_174_1"/>
          <p:cNvPicPr/>
          <p:nvPr/>
        </p:nvPicPr>
        <p:blipFill>
          <a:blip r:embed="rId4"/>
          <a:stretch/>
        </p:blipFill>
        <p:spPr>
          <a:xfrm>
            <a:off x="5791320" y="3657600"/>
            <a:ext cx="2705040" cy="2705040"/>
          </a:xfrm>
          <a:prstGeom prst="rect">
            <a:avLst/>
          </a:prstGeom>
          <a:ln w="0">
            <a:noFill/>
          </a:ln>
        </p:spPr>
      </p:pic>
      <p:sp>
        <p:nvSpPr>
          <p:cNvPr id="399" name="Oval 10"/>
          <p:cNvSpPr/>
          <p:nvPr/>
        </p:nvSpPr>
        <p:spPr>
          <a:xfrm>
            <a:off x="2438280" y="4952880"/>
            <a:ext cx="685800" cy="533520"/>
          </a:xfrm>
          <a:prstGeom prst="ellipse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Rectangle 11"/>
          <p:cNvSpPr/>
          <p:nvPr/>
        </p:nvSpPr>
        <p:spPr>
          <a:xfrm>
            <a:off x="6333120" y="632448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трипаносо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2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imes New Roman"/>
              </a:rPr>
              <a:t>Сонная болезнь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передается через укус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инфицированных мух </a:t>
            </a:r>
            <a:r>
              <a:rPr b="0" i="1" lang="ru-RU" sz="2800" spc="-1" strike="noStrike">
                <a:solidFill>
                  <a:srgbClr val="ffffcc"/>
                </a:solidFill>
                <a:latin typeface="Times New Roman"/>
              </a:rPr>
              <a:t>Цеце,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о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Распространена в 36 странах Афр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южнее пустыни Сахар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WordArt 4"/>
          <p:cNvSpPr txBox="1"/>
          <p:nvPr/>
        </p:nvSpPr>
        <p:spPr>
          <a:xfrm>
            <a:off x="1219320" y="304920"/>
            <a:ext cx="66294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к передается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04" name="Picture 5" descr="2256498"/>
          <p:cNvPicPr/>
          <p:nvPr/>
        </p:nvPicPr>
        <p:blipFill>
          <a:blip r:embed="rId3"/>
          <a:stretch/>
        </p:blipFill>
        <p:spPr>
          <a:xfrm>
            <a:off x="533520" y="38862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" descr="Muha_3"/>
          <p:cNvPicPr/>
          <p:nvPr/>
        </p:nvPicPr>
        <p:blipFill>
          <a:blip r:embed="rId4"/>
          <a:stretch/>
        </p:blipFill>
        <p:spPr>
          <a:xfrm>
            <a:off x="4419720" y="3319560"/>
            <a:ext cx="4419360" cy="3157560"/>
          </a:xfrm>
          <a:prstGeom prst="rect">
            <a:avLst/>
          </a:prstGeom>
          <a:ln w="0">
            <a:noFill/>
          </a:ln>
        </p:spPr>
      </p:pic>
      <p:sp>
        <p:nvSpPr>
          <p:cNvPr id="4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3000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9"/>
          <p:cNvSpPr/>
          <p:nvPr/>
        </p:nvSpPr>
        <p:spPr>
          <a:xfrm>
            <a:off x="3032280" y="2089080"/>
            <a:ext cx="199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Rectangle 10"/>
          <p:cNvSpPr/>
          <p:nvPr/>
        </p:nvSpPr>
        <p:spPr>
          <a:xfrm>
            <a:off x="152280" y="380880"/>
            <a:ext cx="8991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Риску заболевания подвергается до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cc"/>
                </a:solidFill>
                <a:latin typeface="Tahoma"/>
              </a:rPr>
              <a:t>50 млн.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человек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Ежегодно фиксируется примерно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cc"/>
                </a:solidFill>
                <a:latin typeface="Tahoma"/>
              </a:rPr>
              <a:t>25 тыс.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новых случаев сонной болезн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9" name="Picture 12" descr="5770"/>
          <p:cNvPicPr/>
          <p:nvPr/>
        </p:nvPicPr>
        <p:blipFill>
          <a:blip r:embed="rId1"/>
          <a:stretch/>
        </p:blipFill>
        <p:spPr>
          <a:xfrm>
            <a:off x="304920" y="3276720"/>
            <a:ext cx="4762440" cy="31240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4" descr="220px-Africa_satellite_plane"/>
          <p:cNvPicPr/>
          <p:nvPr/>
        </p:nvPicPr>
        <p:blipFill>
          <a:blip r:embed="rId2"/>
          <a:stretch/>
        </p:blipFill>
        <p:spPr>
          <a:xfrm>
            <a:off x="5715000" y="3048120"/>
            <a:ext cx="3257640" cy="3419280"/>
          </a:xfrm>
          <a:prstGeom prst="rect">
            <a:avLst/>
          </a:prstGeom>
          <a:ln w="0">
            <a:noFill/>
          </a:ln>
        </p:spPr>
      </p:pic>
      <p:sp>
        <p:nvSpPr>
          <p:cNvPr id="411" name="Oval 15"/>
          <p:cNvSpPr/>
          <p:nvPr/>
        </p:nvSpPr>
        <p:spPr>
          <a:xfrm>
            <a:off x="6324480" y="4191120"/>
            <a:ext cx="2133720" cy="1447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Line 16"/>
          <p:cNvSpPr/>
          <p:nvPr/>
        </p:nvSpPr>
        <p:spPr>
          <a:xfrm flipH="1">
            <a:off x="4571640" y="4876920"/>
            <a:ext cx="1523880" cy="1522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304920" y="1905120"/>
            <a:ext cx="854064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cc"/>
                </a:solidFill>
                <a:latin typeface="Tahoma"/>
              </a:rPr>
              <a:t>два вида болезн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WordArt 4"/>
          <p:cNvSpPr txBox="1"/>
          <p:nvPr/>
        </p:nvSpPr>
        <p:spPr>
          <a:xfrm>
            <a:off x="685800" y="228600"/>
            <a:ext cx="7848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ормы Сонной болезн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6" name="Line 6"/>
          <p:cNvSpPr/>
          <p:nvPr/>
        </p:nvSpPr>
        <p:spPr>
          <a:xfrm flipH="1">
            <a:off x="2285640" y="3048120"/>
            <a:ext cx="1066680" cy="144756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Line 7"/>
          <p:cNvSpPr/>
          <p:nvPr/>
        </p:nvSpPr>
        <p:spPr>
          <a:xfrm>
            <a:off x="5943600" y="3048120"/>
            <a:ext cx="914400" cy="137160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0" y="4724280"/>
            <a:ext cx="4495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Гамбийска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(Западная и Центральная Африк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Rectangle 9"/>
          <p:cNvSpPr/>
          <p:nvPr/>
        </p:nvSpPr>
        <p:spPr>
          <a:xfrm>
            <a:off x="5334120" y="4724280"/>
            <a:ext cx="3276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Родезийск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(Восточная Африк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8000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380880" y="6094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Клинические проявления обеих форм сон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болезни сходны, но родезийский вариант 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большинстве случаев протекает острее и бе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лечения может закончиться смертью больн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через несколько месяцев или даже недел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Гамбийская форма прогрессирует медленно, и 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нелеченых случаях болезнь мож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продолжаться несколько лет, прежде ч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наступает летальный исх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4000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228240" y="182880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Первые симптомы, как правило, возникают через 1–3 недели после укуса мухи цец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WordArt 4"/>
          <p:cNvSpPr txBox="1"/>
          <p:nvPr/>
        </p:nvSpPr>
        <p:spPr>
          <a:xfrm>
            <a:off x="609480" y="304920"/>
            <a:ext cx="76964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ервая стадия заболеван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304920" y="2514600"/>
            <a:ext cx="2666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На этой стадии, пока трипаносомы ещ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находятся в крови, основные клиническ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проявления включают лихорадку, головну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боль, боли в суставах, мышечную дрожь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повышенное потоотделение, зуд  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вопреки названию болезни, бессонниц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6" name="Picture 9" descr="Muha_3"/>
          <p:cNvPicPr/>
          <p:nvPr/>
        </p:nvPicPr>
        <p:blipFill>
          <a:blip r:embed="rId3"/>
          <a:stretch/>
        </p:blipFill>
        <p:spPr>
          <a:xfrm>
            <a:off x="3048120" y="2286000"/>
            <a:ext cx="2349360" cy="1779480"/>
          </a:xfrm>
          <a:prstGeom prst="rect">
            <a:avLst/>
          </a:prstGeom>
          <a:ln w="0">
            <a:noFill/>
          </a:ln>
        </p:spPr>
      </p:pic>
      <p:sp>
        <p:nvSpPr>
          <p:cNvPr id="427" name="Line 10"/>
          <p:cNvSpPr/>
          <p:nvPr/>
        </p:nvSpPr>
        <p:spPr>
          <a:xfrm>
            <a:off x="5029200" y="4038480"/>
            <a:ext cx="1143000" cy="1143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8" name="Picture 12" descr="Trypanosoma3500"/>
          <p:cNvPicPr/>
          <p:nvPr/>
        </p:nvPicPr>
        <p:blipFill>
          <a:blip r:embed="rId4"/>
          <a:stretch/>
        </p:blipFill>
        <p:spPr>
          <a:xfrm>
            <a:off x="6324480" y="4419720"/>
            <a:ext cx="2590920" cy="2166840"/>
          </a:xfrm>
          <a:prstGeom prst="rect">
            <a:avLst/>
          </a:prstGeom>
          <a:ln w="0">
            <a:noFill/>
          </a:ln>
        </p:spPr>
      </p:pic>
      <p:sp>
        <p:nvSpPr>
          <p:cNvPr id="429" name="Oval 13"/>
          <p:cNvSpPr/>
          <p:nvPr/>
        </p:nvSpPr>
        <p:spPr>
          <a:xfrm>
            <a:off x="4419720" y="3581280"/>
            <a:ext cx="838080" cy="53352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Rectangle 14"/>
          <p:cNvSpPr/>
          <p:nvPr/>
        </p:nvSpPr>
        <p:spPr>
          <a:xfrm rot="2847600">
            <a:off x="4280400" y="4858920"/>
            <a:ext cx="190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Tahoma"/>
              </a:rPr>
              <a:t>Через некоторое время после укус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7000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152280" y="2361960"/>
            <a:ext cx="37339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Главными клинически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проявлениями становя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сильная головная боль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лихорадка, общая слаб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и апатия, чрезмер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сонливость, двигатель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расстройства и кома.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WordArt 4"/>
          <p:cNvSpPr txBox="1"/>
          <p:nvPr/>
        </p:nvSpPr>
        <p:spPr>
          <a:xfrm>
            <a:off x="380880" y="304920"/>
            <a:ext cx="78487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торая стадия заболеван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4" name="Rectangle 6"/>
          <p:cNvSpPr/>
          <p:nvPr/>
        </p:nvSpPr>
        <p:spPr>
          <a:xfrm>
            <a:off x="457200" y="6019920"/>
            <a:ext cx="8381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Если заболевание не лечить, смерть почти неизбежна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152280" y="1447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ahoma"/>
              </a:rPr>
              <a:t>На второй стадии трипаносомы уже проникли в центральную нервную систем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6" name="Picture 9" descr="39-083"/>
          <p:cNvPicPr/>
          <p:nvPr/>
        </p:nvPicPr>
        <p:blipFill>
          <a:blip r:embed="rId3"/>
          <a:stretch/>
        </p:blipFill>
        <p:spPr>
          <a:xfrm>
            <a:off x="6324480" y="2133720"/>
            <a:ext cx="2451240" cy="2695320"/>
          </a:xfrm>
          <a:prstGeom prst="rect">
            <a:avLst/>
          </a:prstGeom>
          <a:ln w="0">
            <a:noFill/>
          </a:ln>
        </p:spPr>
      </p:pic>
      <p:sp>
        <p:nvSpPr>
          <p:cNvPr id="437" name="Oval 10"/>
          <p:cNvSpPr/>
          <p:nvPr/>
        </p:nvSpPr>
        <p:spPr>
          <a:xfrm>
            <a:off x="6934320" y="2743200"/>
            <a:ext cx="1371600" cy="685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8" name="Picture 13" descr="39-082"/>
          <p:cNvPicPr/>
          <p:nvPr/>
        </p:nvPicPr>
        <p:blipFill>
          <a:blip r:embed="rId4"/>
          <a:stretch/>
        </p:blipFill>
        <p:spPr>
          <a:xfrm>
            <a:off x="3962520" y="2057400"/>
            <a:ext cx="2004840" cy="313380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14"/>
          <p:cNvSpPr/>
          <p:nvPr/>
        </p:nvSpPr>
        <p:spPr>
          <a:xfrm>
            <a:off x="4191120" y="5257800"/>
            <a:ext cx="46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cc"/>
                </a:solidFill>
                <a:latin typeface="Tahoma"/>
              </a:rPr>
              <a:t>Сонная болезнь высшего развит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4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В настоящее время для лечения сонной болезни активно используются два лекарства, но они имеют нежелательные побочные эффек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WordArt 5"/>
          <p:cNvSpPr txBox="1"/>
          <p:nvPr/>
        </p:nvSpPr>
        <p:spPr>
          <a:xfrm>
            <a:off x="1981080" y="304920"/>
            <a:ext cx="53341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ечени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1295280" y="30481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ервое основано 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рганически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оединениях мышья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Rectangle 8"/>
          <p:cNvSpPr/>
          <p:nvPr/>
        </p:nvSpPr>
        <p:spPr>
          <a:xfrm>
            <a:off x="4572000" y="502920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 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(стоит очень дорого, помогает не всегда и требует больничного лечения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AutoShape 9"/>
          <p:cNvSpPr/>
          <p:nvPr/>
        </p:nvSpPr>
        <p:spPr>
          <a:xfrm>
            <a:off x="2133720" y="228600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ffcc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AutoShape 10"/>
          <p:cNvSpPr/>
          <p:nvPr/>
        </p:nvSpPr>
        <p:spPr>
          <a:xfrm>
            <a:off x="5791320" y="236232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ffcc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Rectangle 11"/>
          <p:cNvSpPr/>
          <p:nvPr/>
        </p:nvSpPr>
        <p:spPr>
          <a:xfrm>
            <a:off x="0" y="5181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(приводит к смер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одного из каждых 20 пациент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AutoShape 12"/>
          <p:cNvSpPr/>
          <p:nvPr/>
        </p:nvSpPr>
        <p:spPr>
          <a:xfrm>
            <a:off x="2057400" y="434340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ffcc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Rectangle 13"/>
          <p:cNvSpPr/>
          <p:nvPr/>
        </p:nvSpPr>
        <p:spPr>
          <a:xfrm>
            <a:off x="5105520" y="31240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торое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эфлорнити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AutoShape 14"/>
          <p:cNvSpPr/>
          <p:nvPr/>
        </p:nvSpPr>
        <p:spPr>
          <a:xfrm>
            <a:off x="5791320" y="396252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ffcc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Rectangle 15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ffffcc"/>
                </a:solidFill>
                <a:uFillTx/>
                <a:latin typeface="Times New Roman"/>
              </a:rPr>
              <a:t>При вовремя начатом лечении в большинстве случаях удается спасти пациентов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4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1-24T11:07:16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